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E261145-7107-49FF-9936-8B36A1E654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6512871-21E1-4CD7-B31C-7FAB72D765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5B216E0-8EBA-432D-B565-7B792BEC87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199EB46-846E-4F57-9011-EBF267FB53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1D7449-11D5-44B3-A97A-34BA76D90E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2D505D-DDFD-4641-9692-D3BF749F20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F1B5AB-18BE-4747-A046-4D1CD8B83F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AC1FCC-9C02-4A6E-A6B6-7FE33D5FD1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FEA585-5665-4E54-8FCC-C081A6BD81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985AE4-C0F8-42E4-8D0B-CD6DCC0558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52A1A6-005C-4044-871C-8F272CB1C6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0A0B210-6611-46ED-9990-29AE47F68C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0877EC-A92B-4783-82C3-F476CB218A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99831F-6BBF-414F-B3C5-02548B5A56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F4548D-0759-4C02-AE54-1FE1E315F2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C1084D-60C0-4755-94F6-CA3804CF4C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2E5855-91BA-4F28-A21F-1836CE4B77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C2759B3-E26D-4F18-ABA0-179892046C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9E1DE8C-3765-4EC1-8EF7-6E3B9A60A3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8A73267-273A-48D1-BAF1-8CE9B840D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05212D4-A231-452B-B43C-5A276EBE86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F090F8A-BF53-458A-AA80-C61A36016D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F61031E-AC08-47D5-BF90-E2BAA0C59C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991E0C3-645F-4D04-ADE0-FE0CBF4C7F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2A84C-DB53-489B-825F-9B3380562B8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AF0AC-D41F-40C4-AD80-38179C8297D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01" name="PlaceHolder 2"/>
          <p:cNvSpPr>
            <a:spLocks noGrp="1"/>
          </p:cNvSpPr>
          <p:nvPr>
            <p:ph type="subTitle"/>
          </p:nvPr>
        </p:nvSpPr>
        <p:spPr>
          <a:xfrm>
            <a:off x="1116000" y="692280"/>
            <a:ext cx="6400800" cy="590544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Cambria"/>
              </a:rPr>
              <a:t>ΤΜΗΜΑ ΔΙΟΙΚΗΣΗΣ ΟΙΚΟΝΟΜΙΑΣ ΚΑΙ ΕΠΟΙΚΙΝΩΝΙΑΣ ΠΟΛΙΤΙΣΤΙΚΩΝ ΚΑΙ </a:t>
            </a:r>
            <a:endParaRPr b="0" lang="en-US" sz="2400" spc="-1" strike="noStrike">
              <a:solidFill>
                <a:srgbClr val="ffffff"/>
              </a:solidFill>
              <a:latin typeface="Garamon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Cambria"/>
              </a:rPr>
              <a:t>ΤΟΥΡΙΣΤΙΚΩΝ ΜΟΝΑΔΩΝ</a:t>
            </a:r>
            <a:endParaRPr b="0" lang="en-US" sz="2400" spc="-1" strike="noStrike">
              <a:solidFill>
                <a:srgbClr val="ffffff"/>
              </a:solidFill>
              <a:latin typeface="Garamon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Cambria"/>
              </a:rPr>
              <a:t>ΜΑΘΗΜΑ</a:t>
            </a:r>
            <a:r>
              <a:rPr b="1" lang="en-US" sz="2400" spc="-1" strike="noStrike">
                <a:solidFill>
                  <a:srgbClr val="ffffff"/>
                </a:solidFill>
                <a:latin typeface="Cambria"/>
              </a:rPr>
              <a:t>:</a:t>
            </a:r>
            <a:r>
              <a:rPr b="1" lang="el-GR" sz="2400" spc="-1" strike="noStrike">
                <a:solidFill>
                  <a:srgbClr val="ffffff"/>
                </a:solidFill>
                <a:latin typeface="Cambria"/>
              </a:rPr>
              <a:t> ΠΛΗΡΟΦΟΡΙΑΚΑ ΣΥΣΤΗΜΑΤΑ</a:t>
            </a:r>
            <a:endParaRPr b="0" lang="en-US" sz="2400" spc="-1" strike="noStrike">
              <a:solidFill>
                <a:srgbClr val="ffffff"/>
              </a:solidFill>
              <a:latin typeface="Garamon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Garamond"/>
              </a:rPr>
              <a:t>ΘΕΜΑ ΕΡΓΑΣΙΑΣ</a:t>
            </a:r>
            <a:r>
              <a:rPr b="1" lang="en-US" sz="2400" spc="-1" strike="noStrike">
                <a:solidFill>
                  <a:srgbClr val="ffffff"/>
                </a:solidFill>
                <a:latin typeface="Garamond"/>
              </a:rPr>
              <a:t>:</a:t>
            </a:r>
            <a:r>
              <a:rPr b="1" lang="el-GR" sz="2400" spc="-1" strike="noStrike">
                <a:solidFill>
                  <a:srgbClr val="ffffff"/>
                </a:solidFill>
                <a:latin typeface="Garamond"/>
              </a:rPr>
              <a:t> ΠΡΟΓΡΑΜΜΑ ΔΙΑΧΕΙΡΙΣΗΣ ΚΡΑΤΗΣΕΩΝ ΤΟΥ ΛΟΓΙΣΜΙΚΟΥ </a:t>
            </a:r>
            <a:r>
              <a:rPr b="1" lang="en-US" sz="2400" spc="-1" strike="noStrike">
                <a:solidFill>
                  <a:srgbClr val="ffffff"/>
                </a:solidFill>
                <a:latin typeface="Arial"/>
              </a:rPr>
              <a:t>HOTELIER 101</a:t>
            </a:r>
            <a:endParaRPr b="0" lang="en-US" sz="2400" spc="-1" strike="noStrike">
              <a:solidFill>
                <a:srgbClr val="ffffff"/>
              </a:solidFill>
              <a:latin typeface="Garamon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Cambria"/>
              </a:rPr>
              <a:t>ΑΓΓΕΛΗ ΦΩΤΕΙΝΗ </a:t>
            </a:r>
            <a:endParaRPr b="0" lang="en-US" sz="2400" spc="-1" strike="noStrike">
              <a:solidFill>
                <a:srgbClr val="ffffff"/>
              </a:solidFill>
              <a:latin typeface="Garamon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Cambria"/>
              </a:rPr>
              <a:t>ΑΜ 390</a:t>
            </a:r>
            <a:endParaRPr b="0" lang="en-US" sz="2400" spc="-1" strike="noStrike">
              <a:solidFill>
                <a:srgbClr val="ffffff"/>
              </a:solidFill>
              <a:latin typeface="Garamon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764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e5e5ff"/>
                </a:solidFill>
                <a:latin typeface="Arial"/>
              </a:rPr>
              <a:t>Πρόγραμμα Διαχείρισης Κρατήσεων (</a:t>
            </a:r>
            <a:r>
              <a:rPr b="1" lang="en-US" sz="2400" spc="-1" strike="noStrike">
                <a:solidFill>
                  <a:srgbClr val="e5e5ff"/>
                </a:solidFill>
                <a:latin typeface="Arial"/>
              </a:rPr>
              <a:t>Channel Manager</a:t>
            </a:r>
            <a:r>
              <a:rPr b="1" lang="el-GR" sz="2400" spc="-1" strike="noStrike">
                <a:solidFill>
                  <a:srgbClr val="e5e5ff"/>
                </a:solidFill>
                <a:latin typeface="Arial"/>
              </a:rPr>
              <a:t>) ή αλλιώς Μηχανή Κρατήσεων </a:t>
            </a:r>
            <a:endParaRPr b="1" lang="en-US" sz="2400" spc="-1" strike="noStrike">
              <a:solidFill>
                <a:srgbClr val="e5e5ff"/>
              </a:solidFill>
              <a:latin typeface="Garamond"/>
            </a:endParaRPr>
          </a:p>
        </p:txBody>
      </p:sp>
      <p:sp>
        <p:nvSpPr>
          <p:cNvPr id="103" name="PlaceHolder 2"/>
          <p:cNvSpPr>
            <a:spLocks noGrp="1"/>
          </p:cNvSpPr>
          <p:nvPr>
            <p:ph/>
          </p:nvPr>
        </p:nvSpPr>
        <p:spPr>
          <a:xfrm>
            <a:off x="468360" y="2332080"/>
            <a:ext cx="8229600" cy="4525920"/>
          </a:xfrm>
          <a:prstGeom prst="rect">
            <a:avLst/>
          </a:prstGeom>
          <a:noFill/>
          <a:ln w="0">
            <a:noFill/>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ΛΟΓΙΣΜΙΚΟ </a:t>
            </a:r>
            <a:r>
              <a:rPr b="1" lang="en-US" sz="1800" spc="-1" strike="noStrike">
                <a:solidFill>
                  <a:srgbClr val="ffffff"/>
                </a:solidFill>
                <a:latin typeface="Arial"/>
              </a:rPr>
              <a:t>HOTELIER</a:t>
            </a:r>
            <a:r>
              <a:rPr b="1" lang="el-GR" sz="1800" spc="-1" strike="noStrike">
                <a:solidFill>
                  <a:srgbClr val="ffffff"/>
                </a:solidFill>
                <a:latin typeface="Arial"/>
              </a:rPr>
              <a:t> 101</a:t>
            </a:r>
            <a:endParaRPr b="0" lang="en-US" sz="1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     </a:t>
            </a:r>
            <a:r>
              <a:rPr b="1" lang="el-GR" sz="2000" spc="-1" strike="noStrike">
                <a:solidFill>
                  <a:srgbClr val="ffffff"/>
                </a:solidFill>
                <a:latin typeface="Arial"/>
              </a:rPr>
              <a:t>Το Hotelier 101 αποτελεί σημαντική υπηρεσία. Πρόκειται για ένα Σύστημα Διαχείρισης Κρατήσεων που σχεδιάστηκε και αναπτύχθηκε αποκλειστικά με γνώμονα τις ανάγκες των μικρών και μικρoμεσαίων Ξενοδοχείων και Μονάδων Φιλοξενίας. Διατίθεται σε μεγάλο και συνεχώς αυξανόμενο αριθμό ξενοδοχείων στην Ελλάδα, την Τουρκία, την Πορτογαλία, την Ινδία, τα νησιά της Καραϊβικής και άλλες χώρες που αποτελούν Τουριστικούς προορισμούς. Στην Ελλάδα, την αποκλειστική διάθεση και υποστήριξη του Hotelier101 έχει η UpGreat Hospitality, εταιρία παροχής υπηρεσιών προς ξενοδοχεία και Τουριστικές επιχειρήσεις.</a:t>
            </a:r>
            <a:endParaRPr b="0" lang="en-US" sz="2000" spc="-1" strike="noStrike">
              <a:solidFill>
                <a:srgbClr val="ffffff"/>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e5ff"/>
                </a:solidFill>
                <a:latin typeface="Garamond"/>
              </a:rPr>
              <a:t> </a:t>
            </a:r>
            <a:r>
              <a:rPr b="1" lang="en-US" sz="2400" spc="-1" strike="noStrike">
                <a:solidFill>
                  <a:srgbClr val="e5e5ff"/>
                </a:solidFill>
                <a:latin typeface="Arial"/>
              </a:rPr>
              <a:t>ΠΑΡΟΧΕΣ ΤΟΥ ΛΟΓΙΣΜΙΚΟΥ</a:t>
            </a:r>
            <a:endParaRPr b="1" lang="en-US" sz="2400" spc="-1" strike="noStrike">
              <a:solidFill>
                <a:srgbClr val="e5e5ff"/>
              </a:solidFill>
              <a:latin typeface="Garamond"/>
            </a:endParaRPr>
          </a:p>
        </p:txBody>
      </p:sp>
      <p:sp>
        <p:nvSpPr>
          <p:cNvPr id="105" name="PlaceHolder 2"/>
          <p:cNvSpPr>
            <a:spLocks noGrp="1"/>
          </p:cNvSpPr>
          <p:nvPr>
            <p:ph/>
          </p:nvPr>
        </p:nvSpPr>
        <p:spPr>
          <a:xfrm>
            <a:off x="468360" y="1458720"/>
            <a:ext cx="8229600" cy="5398920"/>
          </a:xfrm>
          <a:prstGeom prst="rect">
            <a:avLst/>
          </a:prstGeom>
          <a:noFill/>
          <a:ln w="0">
            <a:noFill/>
          </a:ln>
        </p:spPr>
        <p:txBody>
          <a:bodyPr lIns="90000" rIns="90000" tIns="46800" bIns="46800" anchor="t">
            <a:normAutofit/>
          </a:bodyPr>
          <a:p>
            <a:pPr marL="343080" indent="-3430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Διαχειρίζεται όλες τις κρατήσεις, τα c</a:t>
            </a:r>
            <a:r>
              <a:rPr b="0" lang="en-US" sz="2000" spc="-1" strike="noStrike">
                <a:solidFill>
                  <a:srgbClr val="ffffff"/>
                </a:solidFill>
                <a:latin typeface="Arial"/>
              </a:rPr>
              <a:t>heck</a:t>
            </a:r>
            <a:r>
              <a:rPr b="0" lang="el-GR" sz="2000" spc="-1" strike="noStrike">
                <a:solidFill>
                  <a:srgbClr val="ffffff"/>
                </a:solidFill>
                <a:latin typeface="Arial"/>
              </a:rPr>
              <a:t>-</a:t>
            </a:r>
            <a:r>
              <a:rPr b="0" lang="en-US" sz="2000" spc="-1" strike="noStrike">
                <a:solidFill>
                  <a:srgbClr val="ffffff"/>
                </a:solidFill>
                <a:latin typeface="Arial"/>
              </a:rPr>
              <a:t>in</a:t>
            </a:r>
            <a:r>
              <a:rPr b="0" lang="el-GR" sz="2000" spc="-1" strike="noStrike">
                <a:solidFill>
                  <a:srgbClr val="ffffff"/>
                </a:solidFill>
                <a:latin typeface="Arial"/>
              </a:rPr>
              <a:t>, αλλαγές δωματίων, ομαδικές κρατήσεις, c</a:t>
            </a:r>
            <a:r>
              <a:rPr b="0" lang="en-US" sz="2000" spc="-1" strike="noStrike">
                <a:solidFill>
                  <a:srgbClr val="ffffff"/>
                </a:solidFill>
                <a:latin typeface="Arial"/>
              </a:rPr>
              <a:t>heck</a:t>
            </a:r>
            <a:r>
              <a:rPr b="0" lang="el-GR" sz="2000" spc="-1" strike="noStrike">
                <a:solidFill>
                  <a:srgbClr val="ffffff"/>
                </a:solidFill>
                <a:latin typeface="Arial"/>
              </a:rPr>
              <a:t>-</a:t>
            </a:r>
            <a:r>
              <a:rPr b="0" lang="en-US" sz="2000" spc="-1" strike="noStrike">
                <a:solidFill>
                  <a:srgbClr val="ffffff"/>
                </a:solidFill>
                <a:latin typeface="Arial"/>
              </a:rPr>
              <a:t>out</a:t>
            </a:r>
            <a:r>
              <a:rPr b="0" lang="el-GR" sz="2000" spc="-1" strike="noStrike">
                <a:solidFill>
                  <a:srgbClr val="ffffff"/>
                </a:solidFill>
                <a:latin typeface="Arial"/>
              </a:rPr>
              <a:t> και άλλες βασικές λειτουργίες </a:t>
            </a:r>
            <a:endParaRPr b="0" lang="en-US" sz="2000" spc="-1" strike="noStrike">
              <a:solidFill>
                <a:srgbClr val="ffffff"/>
              </a:solidFill>
              <a:latin typeface="Garamond"/>
            </a:endParaRPr>
          </a:p>
          <a:p>
            <a:pPr marL="343080" indent="-3430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Διαχειρίζεται όλες τις υφιστάμενες και επερχόμενες διαμονές και ενημερώστε τις κρατήσεις μέσα από ένα ενιαίο πίνακα ελέγχου</a:t>
            </a:r>
            <a:endParaRPr b="0" lang="en-US" sz="2000" spc="-1" strike="noStrike">
              <a:solidFill>
                <a:srgbClr val="ffffff"/>
              </a:solidFill>
              <a:latin typeface="Garamond"/>
            </a:endParaRPr>
          </a:p>
          <a:p>
            <a:pPr marL="343080" indent="-3430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Δίνει τη δυνατότητα στον χρήστη να καταχωρεί εύκολα προφίλ για επισκέπτες, επιχειρήσεις, πρακτορεία και παρακολουθεί το ιστορικό συναλλαγών τους</a:t>
            </a:r>
            <a:endParaRPr b="0" lang="en-US" sz="2000" spc="-1" strike="noStrike">
              <a:solidFill>
                <a:srgbClr val="ffffff"/>
              </a:solidFill>
              <a:latin typeface="Garamond"/>
            </a:endParaRPr>
          </a:p>
          <a:p>
            <a:pPr marL="343080" indent="-3430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Μπορείτε να χρησιμοποιήσετε το Σύστημα στα Αγγλικά, τα Ελληνικά, τα Τούρκικα και τα Πορτογαλικά, ενώ συνεχώς προστίθενται νέες γλώσσες</a:t>
            </a:r>
            <a:endParaRPr b="0" lang="en-US" sz="2000" spc="-1" strike="noStrike">
              <a:solidFill>
                <a:srgbClr val="ffffff"/>
              </a:solidFill>
              <a:latin typeface="Garamond"/>
            </a:endParaRPr>
          </a:p>
          <a:p>
            <a:pPr marL="343080" indent="-3430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Μπορείτε να λαμβάνετε και να διαχειρίζεστε κρατήσεις μέσα από την ιστοσελίδα σας, με άμεση ενσωμάτωση και ενημέρωση.</a:t>
            </a:r>
            <a:endParaRPr b="0" lang="en-US" sz="2000" spc="-1" strike="noStrike">
              <a:solidFill>
                <a:srgbClr val="ffffff"/>
              </a:solidFill>
              <a:latin typeface="Garamond"/>
            </a:endParaRPr>
          </a:p>
          <a:p>
            <a:pPr marL="343080" indent="-3430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Η πρόσβαση στο Σύστημα μπορεί να γίνει από οποιαδήποτε συσκευή, οπουδήποτε και βρίσκεστε, οποιαδήποτε στιγμή.</a:t>
            </a:r>
            <a:endParaRPr b="0" lang="en-US" sz="2000" spc="-1" strike="noStrike">
              <a:solidFill>
                <a:srgbClr val="ffffff"/>
              </a:solidFill>
              <a:latin typeface="Garamond"/>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ΠΕΡΙΛΑΜΒΑΝΕΙ</a:t>
            </a:r>
            <a:endParaRPr b="1" lang="en-US" sz="2800" spc="-1" strike="noStrike">
              <a:solidFill>
                <a:srgbClr val="e5e5ff"/>
              </a:solidFill>
              <a:latin typeface="Garamond"/>
            </a:endParaRPr>
          </a:p>
        </p:txBody>
      </p:sp>
      <p:sp>
        <p:nvSpPr>
          <p:cNvPr id="107" name="PlaceHolder 2"/>
          <p:cNvSpPr>
            <a:spLocks noGrp="1"/>
          </p:cNvSpPr>
          <p:nvPr>
            <p:ph/>
          </p:nvPr>
        </p:nvSpPr>
        <p:spPr>
          <a:xfrm>
            <a:off x="457200" y="1125000"/>
            <a:ext cx="8229600" cy="554364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Δυναμικό Πλάνο Δωματίων/Ημερολόγιο</a:t>
            </a:r>
            <a:endParaRPr b="0" lang="en-US" sz="2000" spc="-1" strike="noStrike">
              <a:solidFill>
                <a:srgbClr val="ffffff"/>
              </a:solidFill>
              <a:latin typeface="Garamond"/>
            </a:endParaRPr>
          </a:p>
          <a:p>
            <a:pPr marL="343080" indent="-3430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Η επιλογή Δυναμικού Πλάνου Δωματίων επιτρέπει μέσα από μία μόνο οθόνη την εύκολη διαχείριση του συνόλου των λειτουργιών της μονάδας: Παρακολουθεί όλες τις υφιστάμενες και επερχόμενες διαμονές, ενημερώνει την κατάσταση καθαριότητας δωματίων, και διαχειρίζεστε τις κρατήσεις μέσα από ένα ενιαίο περιβάλλον.</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Κεντρική Οθόνη</a:t>
            </a:r>
            <a:endParaRPr b="0" lang="en-US" sz="2000" spc="-1" strike="noStrike">
              <a:solidFill>
                <a:srgbClr val="ffffff"/>
              </a:solidFill>
              <a:latin typeface="Garamond"/>
            </a:endParaRPr>
          </a:p>
          <a:p>
            <a:pPr marL="343080" indent="-3430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Το Γράφημα στο κέντρο της οθόνης εμφανίζει τον αριθμό των κατειλημμένων, διαθέσιμων και εκτός λειτουργίας δωματίων σε βάθος χρόνου 7 ημερών. Κάτω από το γράφημα, στην ενότητα «Αφίξεις» υπάρχουν οι αφίξεις της ημέρας. Όλες οι κρατήσεις που διαμένουν ήδη στο ξενοδοχείο εμφανίζονται κάτω από την ενότητα «Διαμονές», ενώ η ενότητα «Αναχωρήσεις» εμφανίζει τις κρατήσεις που έχουν αποχωρήσει ή αναμένεται να αποχωρήσουν εντός της ημέρας.</a:t>
            </a:r>
            <a:endParaRPr b="0" lang="en-US" sz="2000" spc="-1" strike="noStrike">
              <a:solidFill>
                <a:srgbClr val="ffffff"/>
              </a:solidFill>
              <a:latin typeface="Garamon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e5e5ff"/>
                </a:solidFill>
                <a:latin typeface="Arial"/>
              </a:rPr>
              <a:t>ΓΙΑΤΙ ΝΑ ΕΠΙΛΕΞΕΙ ΚΑΠΟΙΟΣ ΤΟ ΛΟΓΙΣΜΙΚΟ </a:t>
            </a:r>
            <a:r>
              <a:rPr b="1" lang="en-US" sz="2800" spc="-1" strike="noStrike">
                <a:solidFill>
                  <a:srgbClr val="e5e5ff"/>
                </a:solidFill>
                <a:latin typeface="Arial"/>
              </a:rPr>
              <a:t>HOTELIER</a:t>
            </a:r>
            <a:r>
              <a:rPr b="1" lang="el-GR" sz="2800" spc="-1" strike="noStrike">
                <a:solidFill>
                  <a:srgbClr val="e5e5ff"/>
                </a:solidFill>
                <a:latin typeface="Arial"/>
              </a:rPr>
              <a:t> 101</a:t>
            </a:r>
            <a:endParaRPr b="1" lang="en-US" sz="2800" spc="-1" strike="noStrike">
              <a:solidFill>
                <a:srgbClr val="e5e5ff"/>
              </a:solidFill>
              <a:latin typeface="Garamond"/>
            </a:endParaRPr>
          </a:p>
        </p:txBody>
      </p:sp>
      <p:sp>
        <p:nvSpPr>
          <p:cNvPr id="109" name="PlaceHolder 2"/>
          <p:cNvSpPr>
            <a:spLocks noGrp="1"/>
          </p:cNvSpPr>
          <p:nvPr>
            <p:ph/>
          </p:nvPr>
        </p:nvSpPr>
        <p:spPr>
          <a:xfrm>
            <a:off x="468360" y="1341000"/>
            <a:ext cx="8229600" cy="532764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Δωρεάν Δοκιμή</a:t>
            </a:r>
            <a:endParaRPr b="0" lang="en-US" sz="24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Με τη δωρεάν δοκιμή του Hotelier101 για 15 ημέρες, ο χρήστης μπορεί να ανακαλύψει όλα τα πλεονεκτήματα του Συστήματός αυτού. Δεν απαιτείται η χρήση Πιστωτικής ή Χρεωστικής Κάρτας. Εφόσον μείνει ικανοποιημένος ο χρήστης, μπορεί να ξεκινήσει με τη συνδρομή που του εξυπηρετεί καλύτερα. Εάν για οποιοδήποτε λόγο στην πορεία της συνεργασίας αυτής δε μείνει ικανοποιημένος, μπορεί να τερματίσει άμεσα τη συνδρομή  χωρίς περαιτέρω χρεώσεις.</a:t>
            </a:r>
            <a:endParaRPr b="0" lang="en-US" sz="20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Εύκολο στη χρήση, Γρήγορο και Ασφαλές</a:t>
            </a:r>
            <a:endParaRPr b="0" lang="en-US" sz="24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Το Hotelier101 έχει δημιουργηθεί προσαρμοσμένο αποκλειστικά στις ανάγκες μικρομεσαίων Μονάδων, γι αυτό και είναι τόσο απλό στη χρήση. </a:t>
            </a:r>
            <a:endParaRPr b="0" lang="en-US" sz="20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Πρόσβαση από παντού</a:t>
            </a:r>
            <a:endParaRPr b="0" lang="en-US" sz="24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Δεν απαιτείται καμία εγκατάσταση στον υπολογιστή, αφού το Hotelier101 είναι αποκλειστικά ένα Σύστημα εγκατεστημένο στο ίντερνετ όπου έχετε πρόσβαση από οποιαδήποτε συσκευή.</a:t>
            </a:r>
            <a:endParaRPr b="0" lang="en-US" sz="2000" spc="-1" strike="noStrike">
              <a:solidFill>
                <a:srgbClr val="ffffff"/>
              </a:solidFill>
              <a:latin typeface="Garamon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1" name="PlaceHolder 2"/>
          <p:cNvSpPr>
            <a:spLocks noGrp="1"/>
          </p:cNvSpPr>
          <p:nvPr>
            <p:ph/>
          </p:nvPr>
        </p:nvSpPr>
        <p:spPr>
          <a:xfrm>
            <a:off x="324000" y="233208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ΣΑΣ ΕΥΧΑΡΙΣΤΩ ΠΟΛΥ ΓΙΑ ΤΟΝ ΧΡΟΝΟ ΣΑΣ!</a:t>
            </a:r>
            <a:endParaRPr b="0" lang="en-US" sz="4400" spc="-1" strike="noStrike">
              <a:solidFill>
                <a:srgbClr val="ffffff"/>
              </a:solidFill>
              <a:latin typeface="Garamon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2-12T13:14:43Z</dcterms:created>
  <dc:creator>ΣΠΥΡΟΣ</dc:creator>
  <dc:description/>
  <dc:language>en-US</dc:language>
  <cp:lastModifiedBy>ΣΠΥΡΟΣ</cp:lastModifiedBy>
  <dcterms:modified xsi:type="dcterms:W3CDTF">2019-02-12T13:49:52Z</dcterms:modified>
  <cp:revision>3</cp:revision>
  <dc:subject/>
  <dc:title>Διαφάνεια 1</dc:title>
</cp:coreProperties>
</file>